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6E30EEB-193A-4BD7-8EB9-D5C35A3636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D74C74-F7EB-4D84-BE19-E96B8EDB4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15E36C8-AE8F-4119-BD74-B2A1444A2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6A6-F5A1-44C7-A827-32481803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A8E-19CF-4F94-A2CA-F322DDF8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B9C-548D-413A-9BA9-6A74FD88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A89-A6E1-4E94-9D29-CD4F47F2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5BA-7097-429E-BC4B-171995EC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358-B273-4DEC-A2F1-3F347216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295-DA5D-46A3-9216-3BA90EE2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7B7-9489-4759-A0E0-AFC02294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489-C2B6-43DD-B2BB-FA208EF1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4FF-E9F4-4AF7-81B4-2EAF9564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36F-5E70-4B75-A1BE-99E69916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4A4-B266-41BA-A532-9C268E5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28A97E2-DFEF-4F09-A4A0-752A71CC505C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F6E8958-2E30-4FF9-B842-AC28F038BEDF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2004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52280" y="685800"/>
            <a:ext cx="297180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honics (words with k and 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tegorize your spelling words or find words from the text that have the k and ck 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x.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  si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9718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Vocabulary: (Exact Wo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write each sentence using action verbs. (ex. The ca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went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up the tree.  The ca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climbe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up the tre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e wagon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went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along the dusty road.  The fireman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said,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” get the fire hose.”  Use the following action verbs to write your own sentences.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Underline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the exact verb.  leap, crawl, swoop,  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tomp, wiggle   Initials: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200400" y="4952880"/>
            <a:ext cx="3352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ocabulary (Antonyms) Write antonyms for the following wor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wet, strong, dark, warm, high, below, so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rite a sentence for each one.  Then come up with 4 pairs of your own antonyms and write them in a sentence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s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e a fable.  Include the name of animal character/characters.  Make sure that your animal character/characters act and talk like a person, teach a lesson and ends with a moral that sums up the lesson.  Be creative and have fun writing your f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Focus on Genre: Fables.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itials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4:28:13Z</dcterms:created>
  <dc:creator> </dc:creator>
  <dc:description/>
  <dc:language>en-US</dc:language>
  <cp:lastModifiedBy> </cp:lastModifiedBy>
  <cp:lastPrinted>2009-11-16T16:36:52Z</cp:lastPrinted>
  <dcterms:modified xsi:type="dcterms:W3CDTF">2010-08-11T00:53:01Z</dcterms:modified>
  <cp:revision>23</cp:revision>
  <dc:subject/>
  <dc:title>Slide 1</dc:title>
</cp:coreProperties>
</file>